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13A-3B37-4CD1-ACA6-F6969F0C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9E4-8885-4139-8B06-4F594F1F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903-6261-4374-9646-A14EAA25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116-34C0-485B-AC3B-01B1F0D4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AC8-A46D-4723-BEF3-A9F805B3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0A2-1D3B-4BAE-BAA2-2DD4C748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E55-10B3-47CA-8A61-8159555A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6A9-258F-4BAA-BB0A-DB03A05A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5D8-8C9B-4F0F-93CB-34A242A2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A0B-8BFA-470B-BCD5-F3DF6889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CFB-391F-4362-A61B-1395379E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70C-48E2-43C9-A850-9CE2BDC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6B36-2871-4FC3-92D5-DDBC852A1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hsgrads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228600"/>
            <a:ext cx="57150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HS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ying to College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t. 2010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7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are my options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your resear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program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will you finance your edu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cholarships/Bursaries/Loans/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et your deadlines. Be sure to complete all steps required – portfolio, entrance exam or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00200" y="53352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fe after high school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8001000" cy="5790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What are the important dat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Feb 1, 2010 – applications received by this date will be given equal consideration by the colle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ay 3, 2010 – applicants must confirm offers of ad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June 15, 2010 – earliest date colleges may require tuition f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6019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heck your academic inform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CA" sz="3600" spc="-1" strike="noStrike" u="sng">
                <a:solidFill>
                  <a:srgbClr val="000000"/>
                </a:solidFill>
                <a:uFillTx/>
                <a:latin typeface="Arial"/>
              </a:rPr>
              <a:t>must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let us know if you are taking a course outside of regular day school (night school, summer school, e-  learning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heck out the grad wiki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hsgrads.wikispaces.com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8.   Q &amp;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42:51Z</dcterms:created>
  <dc:creator>Customer</dc:creator>
  <dc:description/>
  <dc:language>en-US</dc:language>
  <cp:lastModifiedBy>Customer</cp:lastModifiedBy>
  <dcterms:modified xsi:type="dcterms:W3CDTF">2009-11-17T16:00:12Z</dcterms:modified>
  <cp:revision>14</cp:revision>
  <dc:subject/>
  <dc:title>RHS Applying to University  Sept. 2010  </dc:title>
</cp:coreProperties>
</file>